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D0B-26F5-48D8-A8A5-C85A4342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9E0-60C1-4751-B35E-5C2E3B3D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F4A-7201-4B75-A0B0-9B4954C1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985-6596-4DBE-A22F-C54E524A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2481-23A5-40C8-94D2-59681A52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D89B-8D98-424A-9FD3-7EB44DBD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A0C-7F4B-47B4-9B20-C554280E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FAAC-ECA3-404D-977D-B80CE88F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A4A-7832-4401-A80C-57020D99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5F80-D4A9-4531-AD6F-F5F98137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D5B8-8890-4CF4-A878-4F73746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4A3-E2A1-4334-8427-948BC02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B199-7CBD-404D-9DDE-A535438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A350-6A74-4A69-8EF5-7D3A532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3236-BB74-433C-88C7-34E4AC39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802-1FFA-4348-8E5A-A094EC7F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848-CD8C-4E10-BA87-9EBE2B9C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38E-29CD-429D-AD74-B2D84A24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952-D820-45A4-A579-E75E3916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AC1-85E9-4213-84B5-62C30B5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EBE-125B-4B71-B116-DBBF060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43A-A5A8-4971-BE5F-EF83A99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F0A-C341-440D-9885-3DF67BD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452-377E-476F-8C10-061FF8B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0975-8952-4BDB-AD6C-63D072D11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5E0-874D-40FC-8598-75BE5B77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wx.prenhall.com/bookbind/pubbooks/hillchem3/medialib/media_portfolio/text_images/CH02/FG02_09.JPG&amp;imgrefurl=http://cwx.prenhall.com/bookbind/pubbooks/hillchem3/medialib/media_portfolio/02.html&amp;h=600&amp;w=580&amp;sz=80&amp;hl=en&amp;start=1&amp;tbnid=N44Lp3ViO41xxM:&amp;tbnh=135&amp;tbnw=131&amp;prev=/images%3Fq%3Datoms%2Bmolecules%2Bformula%2Bunits%26gbv%3D2%26svnum%3D10%26hl%3Den%26safe%3Dof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hemical Quantities - 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ol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447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cent by Mass (Percent Composition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centage of each element in the mass of a compoun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each element in sodium phosph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percent composition of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the mass of Mg in 97.4g Mg(OH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n Empirical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st whole number ratio of elements in a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% composition and assume 100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by MM of each element to get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all by lowest number of m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be Multi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empirical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is determined to be 36.4% nitrogen and 63.16% oxygen, what is the empirical form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empirical formula of a compound that is 72.4% Fe &amp; 27.6%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termining a Molecular Formu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ltiple of empirical formula that accurately shows number of each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mass of empirical formula (EF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MM of the compound by the EF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empirical formula b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molecular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 compound has a molar mass of 110.0 g/mol.  What is the molecular formula if it is 65.45% C, 5.45% H, and 29.09% 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actic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molecular formula of a compound that has an empirical formula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a gfm = 146 g/mo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Choice  and.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egant Problem Solv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are counted in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representative partic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- smallest unit of an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ecule- smallest unit of a molecular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 Unit- smallest unit of an ionic comp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765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avogadro.jpg (12825 bytes)"/>
          <p:cNvPicPr/>
          <p:nvPr/>
        </p:nvPicPr>
        <p:blipFill>
          <a:blip r:embed="rId1"/>
          <a:stretch/>
        </p:blipFill>
        <p:spPr>
          <a:xfrm>
            <a:off x="1495440" y="2254320"/>
            <a:ext cx="230508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s are inconceivably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vogadro’s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6.02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number of carbon-12 atoms in 12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derstanding Re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+  3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2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cule of nitrogen and 3 molecules of hydrogen produce 2 molecules of nitrogen trihydr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 mole of nitrogen molecules and 3 moles of hydrogen molecules produce 2 moles of nitrogen trihydride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1971720" cy="51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57400" y="281952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7400" y="1752480"/>
            <a:ext cx="83808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057400" y="2286000"/>
            <a:ext cx="838080" cy="520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724280" y="18288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24280" y="2590920"/>
            <a:ext cx="581040" cy="53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1676520"/>
            <a:ext cx="68580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762120" cy="6858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nting Partic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les → Particles (multiply by Avogadro’s numbe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atoms are there in 3 moles of aluminu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les → Moles (divide by A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How many moles are there in 5.7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 units of calcium chlor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ss and the Mo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M (molar ma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ss of 1 mole of representative particles in a compound o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Between Moles an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ms → Moles (divide by molar 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moles are there in 135.2 g of wat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 → Grams   (multiply by M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w many grams are there in 3.46 moles of calcium carbon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ll Roads Go Through Mo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lculations between mass and particles are possible by first calculating the number of mo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353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4:26Z</dcterms:created>
  <dc:creator>cmichene</dc:creator>
  <dc:description/>
  <dc:language>en-US</dc:language>
  <cp:lastModifiedBy>udsd</cp:lastModifiedBy>
  <dcterms:modified xsi:type="dcterms:W3CDTF">2009-01-08T12:39:05Z</dcterms:modified>
  <cp:revision>47</cp:revision>
  <dc:subject/>
  <dc:title>Moles and Stoichiometry</dc:title>
</cp:coreProperties>
</file>